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D790-969F-4988-A81B-120609D8E371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formations tirées du graphique publié dans « Tribune », novembre 2013, p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2B37-FF74-4D4E-97CD-59A308162B4F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formations tirées du graphique publié dans « Tribune », novembre 2013, p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ode de lecture : dans 47,9% des écoles, moins de 50% des élèves ont réussi l’épreuve de mathéma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14B7-E88D-4772-8F4E-6F14890CDBA0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l y a d’autres solutions également : remédiation, encadrement différencié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4656-F554-4618-B11A-82E4289EBCAB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6326-7DD0-418E-A839-6C57A5D6A99D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FFAE-0EAF-426F-BDCC-453ADB298050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D5B-6B22-4843-BEC9-D334549E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D24-C4A6-408C-A577-2B52B24D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4E3-217D-4EE7-8614-C44EFF1F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4EB-265D-45DB-B912-B792B264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E51A-E8CC-4DE3-9959-89A19889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8DC5-14F8-4D2D-A2B3-D95E6620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EE8D-8393-4928-AA04-2C419D33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C13E-0683-4785-BADA-AD47D2C3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66EF-D6B0-4130-A9C1-8FC6B6D2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6FA0-4A5B-428C-BAC9-F172B152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7EEE-4D68-4DEE-8D28-8E9B9A61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A42-194F-44BD-9812-E4799C5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9655-7C01-4FB6-96B3-F2AF1599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A57C-3C3D-4668-B88F-7FA55332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5DB4-DAC6-4429-8422-90031F33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1BE7-431B-4291-B947-A4AF8E93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624A-5956-4980-88D1-408BD0FA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E892-1E56-49F8-AFDC-2955073B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AEAF-F419-480B-959C-73A0F1CC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F536-B3B0-4E11-A3C1-283512A0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6FCD-5198-40E1-B3E5-61F0AAE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1809-22AB-41DB-B6F6-6B57A767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DBF-BD7C-4A92-9EAB-1C4577E6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A6CA-C1D3-4FD1-A880-4B149209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C5B3-A678-4893-A3A3-01897869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E266-C083-4D89-937A-6EB5C6DA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658D-4771-4147-B796-330BF0B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66A4-5D8F-4473-AB2C-4D83AA99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B1EA-C057-4E6F-B659-3AB61BF2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584A-106F-4921-A325-9D4CC1E0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0B5F9-AAF3-4CBF-AA2E-8DF25237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76DF-292F-4B18-9D89-B3F4821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3220-7292-4206-9651-60CEF119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FDF-EC6F-4EF5-9A8A-81EADA67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900B-B342-4832-8BA0-A0684F45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462B-C83F-4B56-8DE2-3182B505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ADAA-085F-4176-96E1-84954C1A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D06E-AF9C-4664-99D6-8583992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AE35D-9B77-4E44-ADDD-880E3BB0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632A-55ED-4A52-AE1F-9C60645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F6460-7393-47EE-81A4-9353ADC9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6B7B3-E161-420E-B1F3-E8FFB5D7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34E1-2E1A-48C0-BDAB-44C35065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30E-D445-4C28-8EFA-829F7FC2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73E-3558-45CE-9621-9C49BAB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77B-FA39-44BE-96B4-690580D0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800-D479-4F08-9A2D-4BED98C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649-82AC-4DEE-9D67-8EE4F35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FB35-2EA7-4246-B115-EC4A2DD0CF83}" type="slidenum">
              <a:rPr b="0" lang="fr-B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00EF-AEE4-492C-84B6-E727A11B9194}" type="slidenum">
              <a:rPr b="0" lang="fr-B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4FDE-4825-4670-B081-D0D8BB17C955}" type="slidenum">
              <a:rPr b="0" lang="fr-B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EC4A-73E7-4C1E-A1BC-8BEEB81CE978}" type="slidenum">
              <a:rPr b="0" lang="fr-B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re 1" descr=""/>
          <p:cNvPicPr/>
          <p:nvPr/>
        </p:nvPicPr>
        <p:blipFill>
          <a:blip r:embed="rId1"/>
          <a:stretch/>
        </p:blipFill>
        <p:spPr>
          <a:xfrm>
            <a:off x="396720" y="1914480"/>
            <a:ext cx="863136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360240" y="4572000"/>
            <a:ext cx="4854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Colloque 14 &amp; 15 novembre 20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Sommaire de l’ateli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Présentation M. Balhan, A.R. Esne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Présentation Mme Hausmann, FESe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Présentation M. Dewitte, I.C.A.D.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Espace réservé du contenu 4"/>
          <p:cNvSpPr/>
          <p:nvPr/>
        </p:nvSpPr>
        <p:spPr>
          <a:xfrm>
            <a:off x="609480" y="2087640"/>
            <a:ext cx="82296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  <a:ea typeface="Arial"/>
              </a:rPr>
              <a:t>Un trop grand nombre d’élèves en échec en mathématiqu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  <a:ea typeface="Arial"/>
              </a:rPr>
              <a:t>A titre d’illustration : r</a:t>
            </a:r>
            <a:r>
              <a:rPr b="0" lang="fr-BE" sz="2800" spc="-1" strike="noStrike">
                <a:solidFill>
                  <a:srgbClr val="ffffff"/>
                </a:solidFill>
                <a:latin typeface="Constantia"/>
                <a:ea typeface="Arial"/>
              </a:rPr>
              <a:t>ésultats épreuves communes certificatives CE1D, juin 20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76520" y="4797360"/>
          <a:ext cx="6095880" cy="7416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mbre d’élè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ux de réus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core moy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9 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5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500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Proportion d’écoles qui affichent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58920" y="2781360"/>
          <a:ext cx="609588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un taux de réussite &lt; 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un taux de réussite &gt; 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7,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2,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13" name="Espace réservé du contenu 4"/>
          <p:cNvSpPr/>
          <p:nvPr/>
        </p:nvSpPr>
        <p:spPr>
          <a:xfrm>
            <a:off x="628560" y="4653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  <a:ea typeface="Arial"/>
              </a:rPr>
              <a:t>Il y a donc un problème … ou plusieu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Sans doute, une partie de la responsabilité de l’échec incombe aux élèv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Mais, vu la proportion d’échecs, ne faut-il pas se mettre en question aussi? Profs et responsables du système éducatif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Une solution actuelle, réorienter les élèves en difficultés vers des sections à 2h/semaine ou moins, est-elle profitab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Dans cet atelier, nous nous limiterons à 3 aspects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onstantia"/>
              </a:rPr>
              <a:t>Exposé 1 : </a:t>
            </a:r>
            <a:r>
              <a:rPr b="0" i="1" lang="fr-BE" sz="2400" spc="-1" strike="noStrike">
                <a:solidFill>
                  <a:srgbClr val="ffffff"/>
                </a:solidFill>
                <a:latin typeface="Constantia"/>
              </a:rPr>
              <a:t>« Qu’entend-on par comprendre les mathématiques ? 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onstantia"/>
              </a:rPr>
              <a:t>Exposé 2 : </a:t>
            </a:r>
            <a:r>
              <a:rPr b="0" i="1" lang="fr-BE" sz="2400" spc="-1" strike="noStrike">
                <a:solidFill>
                  <a:srgbClr val="ffffff"/>
                </a:solidFill>
                <a:latin typeface="Constantia"/>
              </a:rPr>
              <a:t>« une réorientation vers une autre section ou filière, est-ce profitable à l’élève? 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onstantia"/>
              </a:rPr>
              <a:t>Exposé 3 : </a:t>
            </a:r>
            <a:r>
              <a:rPr b="0" i="1" lang="fr-BE" sz="2400" spc="-1" strike="noStrike">
                <a:solidFill>
                  <a:srgbClr val="ffffff"/>
                </a:solidFill>
                <a:latin typeface="Constantia"/>
              </a:rPr>
              <a:t>« quelles mathématiques pour quels élèves ? 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dbf5f9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256500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Les exposés dureront à chaque fois 15 min, et seront suivis de 5 minutes de débat avec la sall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ffffff"/>
                </a:solidFill>
                <a:latin typeface="Constantia"/>
              </a:rPr>
              <a:t>L’atelier sera clôturé par un débat sur l’ensemble des trois exposés + interven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7:02:51Z</dcterms:created>
  <dc:creator>jorre</dc:creator>
  <dc:description/>
  <dc:language>en-US</dc:language>
  <cp:lastModifiedBy>Admin</cp:lastModifiedBy>
  <dcterms:modified xsi:type="dcterms:W3CDTF">2013-11-13T21:14:30Z</dcterms:modified>
  <cp:revision>103</cp:revision>
  <dc:subject/>
  <dc:title>Enseignement  en TQ / P</dc:title>
</cp:coreProperties>
</file>